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15.wmf" ContentType="image/x-wmf"/>
  <Override PartName="/ppt/media/image7.png" ContentType="image/png"/>
  <Override PartName="/ppt/media/image6.wmf" ContentType="image/x-wmf"/>
  <Override PartName="/ppt/media/image31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10.jpeg" ContentType="image/jpeg"/>
  <Override PartName="/ppt/media/image13.wmf" ContentType="image/x-wmf"/>
  <Override PartName="/ppt/media/image30.wmf" ContentType="image/x-wmf"/>
  <Override PartName="/ppt/media/image3.png" ContentType="image/png"/>
  <Override PartName="/ppt/media/image33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2.png" ContentType="image/png"/>
  <Override PartName="/ppt/media/image1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0158-CC2B-4B5D-9E7F-0537C4D74F7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8ADC-B7FD-4254-8FC7-94D779E0F0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47A4-5E8C-4359-9C52-C5478AE0A8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7D0B-E949-4C9E-BCA8-ED75D373D1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49AF-25FD-431B-A45B-F8779373B6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0DB8-B2F9-4B52-82FC-AD5BFB0B0E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3F32-6D4F-4FFD-AB4C-2B7AFF1EF9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FAA0-BEF6-4409-AEE7-C3AD69AF9B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52EE-5FFC-4DA1-B78B-3336DDF228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AF07-DB72-4E8B-8A65-7B5CCD5441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BDBA-C00F-45C7-9020-154E9806D4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D240-EC46-4DF5-A582-DBAD7605D0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3ABF-F01F-4C0D-B799-2B14BC1569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1B22-BF1B-4E9A-8F72-B308A58748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96E1-5420-44E5-9041-612AB46CDF4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6CA0-DDCC-4420-8F12-17C659845B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C52D-415B-4C86-AC0A-83FCF357BC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5475-D352-4296-8659-B560D299A08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CDB4-0D12-40A3-9197-2612C209624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27B8-1896-4C63-8B23-E9F206A9B50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335F-987A-47AD-859E-5552D2B761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41C5-AF62-480A-9679-3F8C878FB9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F5B3-9DCA-41E0-94EC-BD7E7D26C7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AF12-C403-43E8-A453-1ACE952FF5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BCCB-620E-4795-A519-4282634883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1F3F-8084-47C1-B087-BA0A932148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22EE-AA4E-49C8-8A5E-49E1A36A83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C53C-909F-48A5-BAC3-28D4C457D9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D578-4FCC-4732-95F4-ACB3706AEB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51F5-71D8-43FF-BD7B-DD9FBAA525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B2F2-F0CE-442F-ABE5-24386948E6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B648-6C9D-4B71-9673-99BAA702C8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D678-A6CC-4B95-860F-661EB5F0F7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01CF-027E-4FB2-B259-72250836C66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0A6E-5554-4C50-A330-296496DE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EA67-AA19-4721-832C-752142CC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C55-98F4-4073-8651-8AA3E7FF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3341-0AD0-4D13-A38B-C98D3325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771-D2B0-4600-8E98-B047EF05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9FB5-7E1F-4C04-B2EA-4E1D975C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C26-2DCE-4EF9-AF85-8A309326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648-4548-49E5-957D-E742AFB2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4F7-2102-4285-A365-C6013FC2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02B-EB6E-42FC-AA00-EF9605FF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DFDB-322E-4753-9118-A31AB9D3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8A9-B0D3-4C7E-91EA-3DEBD7DB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85C2-582D-4C04-957F-CCFDAF145016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Arial Black"/>
              </a:rPr>
              <a:t>ПРЕДМЕТЫ В ДОМЕ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5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УТЮГ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868680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SHMBSA-02103"/>
          <p:cNvPicPr/>
          <p:nvPr/>
        </p:nvPicPr>
        <p:blipFill>
          <a:blip r:embed="rId2"/>
          <a:stretch/>
        </p:blipFill>
        <p:spPr>
          <a:xfrm>
            <a:off x="2438280" y="1523880"/>
            <a:ext cx="4672080" cy="46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77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ГЛАДИЛЬНАЯ ДОС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000803_1073_7399_vnvv"/>
          <p:cNvPicPr/>
          <p:nvPr/>
        </p:nvPicPr>
        <p:blipFill>
          <a:blip r:embed="rId2"/>
          <a:stretch/>
        </p:blipFill>
        <p:spPr>
          <a:xfrm>
            <a:off x="1523880" y="1981080"/>
            <a:ext cx="6249960" cy="398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644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ВЕ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5" descr="000803_1067_5151_vnvv"/>
          <p:cNvPicPr/>
          <p:nvPr/>
        </p:nvPicPr>
        <p:blipFill>
          <a:blip r:embed="rId1"/>
          <a:stretch/>
        </p:blipFill>
        <p:spPr>
          <a:xfrm>
            <a:off x="2209680" y="1523880"/>
            <a:ext cx="5257800" cy="501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776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ШКАТУЛ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000803_1052_7923_vuvv"/>
          <p:cNvPicPr/>
          <p:nvPr/>
        </p:nvPicPr>
        <p:blipFill>
          <a:blip r:embed="rId2"/>
          <a:stretch/>
        </p:blipFill>
        <p:spPr>
          <a:xfrm>
            <a:off x="2057400" y="1676520"/>
            <a:ext cx="5129280" cy="421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196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ОНТ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5" descr="hhca007j"/>
          <p:cNvPicPr/>
          <p:nvPr/>
        </p:nvPicPr>
        <p:blipFill>
          <a:blip r:embed="rId1"/>
          <a:srcRect l="13769" t="7678" r="0" b="0"/>
          <a:stretch/>
        </p:blipFill>
        <p:spPr>
          <a:xfrm>
            <a:off x="1600200" y="1219320"/>
            <a:ext cx="4794120" cy="5113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35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ОДЕЯЛО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6" descr="000803_1053_0383_vuvv"/>
          <p:cNvPicPr/>
          <p:nvPr/>
        </p:nvPicPr>
        <p:blipFill>
          <a:blip r:embed="rId1"/>
          <a:stretch/>
        </p:blipFill>
        <p:spPr>
          <a:xfrm>
            <a:off x="1371600" y="1523880"/>
            <a:ext cx="6221520" cy="4680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6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ЕНТИЛЯТО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5" descr="SHMSWA-021694"/>
          <p:cNvPicPr/>
          <p:nvPr/>
        </p:nvPicPr>
        <p:blipFill>
          <a:blip r:embed="rId1"/>
          <a:stretch/>
        </p:blipFill>
        <p:spPr>
          <a:xfrm>
            <a:off x="2895480" y="1523880"/>
            <a:ext cx="4570560" cy="5027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ВЕТИЛЬН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6" descr="liberty_lamp"/>
          <p:cNvPicPr/>
          <p:nvPr/>
        </p:nvPicPr>
        <p:blipFill>
          <a:blip r:embed="rId1"/>
          <a:stretch/>
        </p:blipFill>
        <p:spPr>
          <a:xfrm>
            <a:off x="3124080" y="1676520"/>
            <a:ext cx="3232440" cy="4486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29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НИЖНАЯ ПОЛ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5" descr="000803_1052_7902_vuvv"/>
          <p:cNvPicPr/>
          <p:nvPr/>
        </p:nvPicPr>
        <p:blipFill>
          <a:blip r:embed="rId1"/>
          <a:stretch/>
        </p:blipFill>
        <p:spPr>
          <a:xfrm>
            <a:off x="635040" y="2286000"/>
            <a:ext cx="8508960" cy="3679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62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АЗ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6" descr="000803_1067_5154_vnvv"/>
          <p:cNvPicPr/>
          <p:nvPr/>
        </p:nvPicPr>
        <p:blipFill>
          <a:blip r:embed="rId1"/>
          <a:stretch/>
        </p:blipFill>
        <p:spPr>
          <a:xfrm>
            <a:off x="2514600" y="1905120"/>
            <a:ext cx="4572000" cy="435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822960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757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ЛЮЧИ  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" name="Picture 7" descr="keyring"/>
          <p:cNvPicPr/>
          <p:nvPr/>
        </p:nvPicPr>
        <p:blipFill>
          <a:blip r:embed="rId1"/>
          <a:stretch/>
        </p:blipFill>
        <p:spPr>
          <a:xfrm>
            <a:off x="2438280" y="22860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7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ЕРКАЛО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Picture 6" descr="SHMSWA-021605"/>
          <p:cNvPicPr/>
          <p:nvPr/>
        </p:nvPicPr>
        <p:blipFill>
          <a:blip r:embed="rId1"/>
          <a:srcRect l="0" t="0" r="0" b="44170"/>
          <a:stretch/>
        </p:blipFill>
        <p:spPr>
          <a:xfrm>
            <a:off x="2971800" y="1523880"/>
            <a:ext cx="3813120" cy="5334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687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ОДСВЕЧН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Picture 5" descr="000803_1052_1470_vuvv"/>
          <p:cNvPicPr/>
          <p:nvPr/>
        </p:nvPicPr>
        <p:blipFill>
          <a:blip r:embed="rId1"/>
          <a:stretch/>
        </p:blipFill>
        <p:spPr>
          <a:xfrm>
            <a:off x="2971800" y="1523880"/>
            <a:ext cx="3424320" cy="5105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176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АРТИН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83059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2"/>
          <p:cNvSpPr/>
          <p:nvPr/>
        </p:nvSpPr>
        <p:spPr>
          <a:xfrm>
            <a:off x="2209680" y="1295280"/>
            <a:ext cx="4572000" cy="5181840"/>
          </a:xfrm>
          <a:prstGeom prst="bevel">
            <a:avLst>
              <a:gd name="adj" fmla="val 713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13" descr="hbsobta-07350"/>
          <p:cNvPicPr/>
          <p:nvPr/>
        </p:nvPicPr>
        <p:blipFill>
          <a:blip r:embed="rId2"/>
          <a:stretch/>
        </p:blipFill>
        <p:spPr>
          <a:xfrm>
            <a:off x="2514600" y="1600200"/>
            <a:ext cx="3948120" cy="45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05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ЕН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6" descr="000803_1067_6209_vnvv"/>
          <p:cNvPicPr/>
          <p:nvPr/>
        </p:nvPicPr>
        <p:blipFill>
          <a:blip r:embed="rId1"/>
          <a:stretch/>
        </p:blipFill>
        <p:spPr>
          <a:xfrm>
            <a:off x="3200400" y="1905120"/>
            <a:ext cx="3048120" cy="4495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896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ОВО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5" descr="hhbo030j"/>
          <p:cNvPicPr/>
          <p:nvPr/>
        </p:nvPicPr>
        <p:blipFill>
          <a:blip r:embed="rId1"/>
          <a:stretch/>
        </p:blipFill>
        <p:spPr>
          <a:xfrm>
            <a:off x="2133720" y="1843200"/>
            <a:ext cx="4736880" cy="422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43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ЕШАЛ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7" descr="hhsi049j"/>
          <p:cNvPicPr/>
          <p:nvPr/>
        </p:nvPicPr>
        <p:blipFill>
          <a:blip r:embed="rId1"/>
          <a:stretch/>
        </p:blipFill>
        <p:spPr>
          <a:xfrm>
            <a:off x="2362320" y="1981080"/>
            <a:ext cx="4925880" cy="3281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97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ФЕН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Picture 5" descr="000803_1079_7287_vuvv"/>
          <p:cNvPicPr/>
          <p:nvPr/>
        </p:nvPicPr>
        <p:blipFill>
          <a:blip r:embed="rId1"/>
          <a:stretch/>
        </p:blipFill>
        <p:spPr>
          <a:xfrm>
            <a:off x="1828800" y="1600200"/>
            <a:ext cx="5918040" cy="4594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537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РАСЧЕС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5" descr="000803_1054_6236_vnvv"/>
          <p:cNvPicPr/>
          <p:nvPr/>
        </p:nvPicPr>
        <p:blipFill>
          <a:blip r:embed="rId1"/>
          <a:stretch/>
        </p:blipFill>
        <p:spPr>
          <a:xfrm>
            <a:off x="3505320" y="1905120"/>
            <a:ext cx="2128680" cy="457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845820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204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МНАТНОЕ РАСТЕНИЕ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5" descr="geranium"/>
          <p:cNvPicPr/>
          <p:nvPr/>
        </p:nvPicPr>
        <p:blipFill>
          <a:blip r:embed="rId1"/>
          <a:stretch/>
        </p:blipFill>
        <p:spPr>
          <a:xfrm>
            <a:off x="2286000" y="1371600"/>
            <a:ext cx="4525920" cy="5029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8763120" y="-8380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2305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ЛАМПОЧ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Picture 5" descr="SHMIDA-031599"/>
          <p:cNvPicPr/>
          <p:nvPr/>
        </p:nvPicPr>
        <p:blipFill>
          <a:blip r:embed="rId1"/>
          <a:stretch/>
        </p:blipFill>
        <p:spPr>
          <a:xfrm>
            <a:off x="2438280" y="1905120"/>
            <a:ext cx="4260960" cy="4016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8534520" y="-8380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587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АМО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Picture 5" descr="lock"/>
          <p:cNvPicPr/>
          <p:nvPr/>
        </p:nvPicPr>
        <p:blipFill>
          <a:blip r:embed="rId1"/>
          <a:stretch/>
        </p:blipFill>
        <p:spPr>
          <a:xfrm>
            <a:off x="2514600" y="1828800"/>
            <a:ext cx="4394160" cy="4394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4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АЛЬКУЛЯТОР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Picture 9" descr="010409_0714_1353_vuvv"/>
          <p:cNvPicPr/>
          <p:nvPr/>
        </p:nvPicPr>
        <p:blipFill>
          <a:blip r:embed="rId1"/>
          <a:stretch/>
        </p:blipFill>
        <p:spPr>
          <a:xfrm>
            <a:off x="2438280" y="1905120"/>
            <a:ext cx="4572000" cy="3956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345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587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НОЖНИЦ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Picture 6" descr="m2211"/>
          <p:cNvPicPr/>
          <p:nvPr/>
        </p:nvPicPr>
        <p:blipFill>
          <a:blip r:embed="rId1"/>
          <a:stretch/>
        </p:blipFill>
        <p:spPr>
          <a:xfrm>
            <a:off x="2133720" y="2057400"/>
            <a:ext cx="5257800" cy="3938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2"/>
          <a:stretch/>
        </p:blipFill>
        <p:spPr>
          <a:xfrm>
            <a:off x="868680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2045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УШИЛКА ДЛЯ БЕЛЬЯ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Picture 7" descr="SHMSWA-021591"/>
          <p:cNvPicPr/>
          <p:nvPr/>
        </p:nvPicPr>
        <p:blipFill>
          <a:blip r:embed="rId1"/>
          <a:stretch/>
        </p:blipFill>
        <p:spPr>
          <a:xfrm>
            <a:off x="2133720" y="2057400"/>
            <a:ext cx="5027400" cy="3703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84582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2794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ЧАС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Picture 5" descr="RF4521752"/>
          <p:cNvPicPr/>
          <p:nvPr/>
        </p:nvPicPr>
        <p:blipFill>
          <a:blip r:embed="rId1"/>
          <a:stretch/>
        </p:blipFill>
        <p:spPr>
          <a:xfrm>
            <a:off x="1828800" y="1676520"/>
            <a:ext cx="5562720" cy="4778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6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ТЕЛЕВИЗО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000803_1057_5941_vnvv"/>
          <p:cNvPicPr/>
          <p:nvPr/>
        </p:nvPicPr>
        <p:blipFill>
          <a:blip r:embed="rId2"/>
          <a:stretch/>
        </p:blipFill>
        <p:spPr>
          <a:xfrm>
            <a:off x="2057400" y="1828800"/>
            <a:ext cx="5029200" cy="44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6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ЫЛЕСОС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5" descr="vacuum"/>
          <p:cNvPicPr/>
          <p:nvPr/>
        </p:nvPicPr>
        <p:blipFill>
          <a:blip r:embed="rId1"/>
          <a:stretch/>
        </p:blipFill>
        <p:spPr>
          <a:xfrm>
            <a:off x="2971800" y="1295280"/>
            <a:ext cx="3429000" cy="5172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98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ТЕЛЕФОН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Picture 5" descr="phone_1"/>
          <p:cNvPicPr/>
          <p:nvPr/>
        </p:nvPicPr>
        <p:blipFill>
          <a:blip r:embed="rId1"/>
          <a:stretch/>
        </p:blipFill>
        <p:spPr>
          <a:xfrm>
            <a:off x="2362320" y="2133720"/>
            <a:ext cx="4572000" cy="3860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2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7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ЛОНКИ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9" name="Picture 5" descr="000803_1057_5881_vnvv"/>
          <p:cNvPicPr/>
          <p:nvPr/>
        </p:nvPicPr>
        <p:blipFill>
          <a:blip r:embed="rId1"/>
          <a:stretch/>
        </p:blipFill>
        <p:spPr>
          <a:xfrm>
            <a:off x="2362320" y="1676520"/>
            <a:ext cx="5181480" cy="481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727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БУДИЛЬН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2" name="Picture 5" descr="0250041"/>
          <p:cNvPicPr/>
          <p:nvPr/>
        </p:nvPicPr>
        <p:blipFill>
          <a:blip r:embed="rId1"/>
          <a:stretch/>
        </p:blipFill>
        <p:spPr>
          <a:xfrm>
            <a:off x="2971800" y="1905120"/>
            <a:ext cx="3560760" cy="4343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85345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16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4:46:2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